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2FE-F01B-435D-B92A-8AC9B938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B0E-EA3A-42B8-9797-20B7F7A2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BAADB-3D17-435B-93B5-5FF8DFA5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F7ABD-1020-4958-8E38-47746DB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C2ED-E074-4C68-A13C-96C3388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45D7D-22FB-41E5-BD5E-A836B06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F51A-6C90-4561-B4B7-D14664C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425A1-31C3-407B-87D8-D630BFE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A0404-CDB3-4F93-BABD-E651C0E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B8B20-7D67-460B-8855-A51ACAD5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07950-B42C-42D0-984A-B45CAE66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94222-8FBC-4E78-9EDD-1A5E2C7E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074-529B-4D69-930E-88EF79C5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FA0DC-8A07-435C-9CBD-12EC1BA0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4E044-70A4-47A3-9544-9336453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23877-98B2-4255-82F8-2DF7490D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AB66C-3A9A-4CD8-B835-B808526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F0B2C-C403-465F-8F47-2EE3F98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D33EF-3E41-4247-8F67-D1A17FC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2AE60-E461-495D-96C1-0483456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2DD9C-AB1D-44C6-8D1E-9A782C5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21385-3E77-46D1-90E6-E58A92CC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6B298-608C-4D2A-B50A-B0EB721F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CAD-4240-40B4-AD73-DC5C2B69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FB09-EB07-41E2-8D44-1F88A3AA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5B1F2-8F8C-4034-AAD8-7713096D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03CF8-6FA1-4E69-B87A-2BCC2677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6E2D5-092C-42D3-98B1-CB741E2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52071-9953-485A-B1F6-C8DB142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2021D-95AD-4710-A468-D9D298E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2C28-E09B-4273-B876-4DF1B55E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4A623-87CF-4285-A231-5E99E58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7E1EC-5921-48DE-9577-45E4807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DDFF1-00C3-4FAE-ABE3-67A3DE7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A323-3DBF-4DDC-BC1D-DF220199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C19A0-9936-4A0E-8DF6-E1DD967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7548-A393-4F81-969E-5165FE24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3759D-45E6-4662-A7B4-BC35CBBF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90A1C-18DF-4EBD-804A-821F63E8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B9CC4-E469-416B-BE91-DCCCC69D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9AD75-42BC-4CAE-88F2-B455F76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B07AF-EA0D-4E02-9F29-157A800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FCBF1-D954-4ED0-AA34-1248B47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09159-0C0D-4A00-BC43-7D5E98F8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B13D7-4E7B-4B15-AB12-015EAD6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95A-C76B-4633-8D1D-15D0B0BD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9C629-8155-4771-89C5-5F6E261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B28E1-8357-4C9C-A90B-5CD94DD9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E2783-A16A-4DAA-8E41-DF300111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9C5B1-A7D2-4CF3-8444-CA5716B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5103B-BE3C-46BD-8D55-30321B34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251E4-ED7C-4C00-AB34-810E11B1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F45DD-DA01-455B-9E9F-BDD29D7E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ACE33-DA3A-4C4A-AB15-D6A428A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9C360-C4D5-46EB-8F00-7A49C1FE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37B84-D2DB-4152-8A77-4A814F5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7870-A4A0-4342-A9B1-5C292DF9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0EF25-C7A7-423F-A15C-E3D5D86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51036-75EF-4011-94C5-43FFB94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69BF5-89EC-4FD2-B036-8BEC83E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A1258-4744-4AD6-B630-6576485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91484-5FEF-4728-859C-6F16A01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68498-A32F-4313-B57B-B3DA3D3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3DF97-B00D-41B5-8B42-D4FD8DB1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ACCC9-025A-4B7D-A733-20BBC912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D7E53-DF2A-4B90-B290-CF2AC1A5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5CBF5-3996-4D0E-8C5B-9A228272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F822-21A8-421F-95A1-0246749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9FEB1-0AC1-40F2-9E73-64529C6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9AF20-A897-41D2-8BE0-C526C2F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B6B19-C4C8-4F0A-B8EB-0F95ADC1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D5DA1-679B-4ABB-AA65-D31C609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F54E7-7ABB-429B-9373-3CA79C96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E7162-E193-4B18-82EE-4D41F07A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F203F-7960-44C0-A02E-DD4D9876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2CFE0-BF26-4FD5-94F1-C8D53897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4073D-8003-4EB1-BA16-2DEDF16A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1E2-9468-43E4-B6B3-D1D3AB0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F11D-FF1D-4517-A76B-4B87044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CF7-2471-45D8-9CCB-D6B59BC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656-2BC4-487A-9092-1609EDD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1FBD-FF89-482A-95D5-E25DF92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18AE-5D4E-4E0D-9ABD-EC00C66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EEBC-1D45-4C44-BDE1-2423465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E5B1-1CF9-4964-BA8F-36B1764C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5C2-8B92-4A9D-AEB3-1FB00659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87C0-8692-4897-BFF6-CD12686E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46D1-9E60-4A8D-A813-B51239E2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9A20-ACFD-4D3F-B91A-186EE43F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B1B0-3F7B-4B03-9212-723D0424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EB5C-4CD1-44E2-9A36-F18C16F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903-FBAC-43AB-ACE9-EF6D493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8C87-ED84-4D92-917A-49602A95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F372-62F5-407D-86E3-5C21496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E975-638D-469B-BC96-15C4687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8479-A5E3-4936-A715-57798C6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17AE-B1F1-418F-BA60-4EA77B20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9206-8FF6-4F1C-8DE6-47B40A9B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457F-5F27-49F8-B039-58D87DDD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340E-AFA4-490B-882F-2AF4E277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F2D0-7E40-4FEB-949E-656DEA4C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256F-C61A-4FB0-ADB0-7326D4F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3EB-C55C-41B8-AC93-991B92E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4F4D-DEEA-4248-83F4-99FC028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2073-A1BD-4628-BC85-F1D64FD8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B679-607B-4D08-893E-9ED4863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2AE4-AFD8-45BF-A07B-58B15ED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9BBF-6577-44AB-AE1D-390AE5F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6F25-85D0-47CD-9996-9B275F6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D863-0115-4326-AADD-9EB40DB3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54E6-BD8A-42DC-B4BC-FB5C9B46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7BAF-2C80-4F97-A010-3213606A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9D0A-AF43-4F9F-B2CE-1C36BC6E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4C0-414D-49CC-85BB-D0697749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09E3-EF42-401C-BE21-9EE976C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6FDDF-C05C-49B4-AE3D-CB825003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AEA3-D021-4B75-8E55-DCE5E3A8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6BEB-5AAB-4F61-B49E-205AF28D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152E8-452E-4D48-9DDF-163AC079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A8F13-06E8-4957-8516-50FC5EC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C5CF-0E14-41ED-99C3-EC535B1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0914-85B6-4B81-AAD6-C53262C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9670A-4E7C-4D16-A79F-6B5A76E1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05C35-6018-4096-A006-66BDF5DC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97F-F956-48BD-96A8-6B0AC4C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16AA-190D-4E97-B6D0-1FB58DF8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8A60-4A5C-46B7-8407-274840DA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328A-B18B-4E06-8446-314AA2FC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5E37-C848-4AE3-845C-28E8830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3501-F1B2-4067-960F-A8BE9E2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3096-FE88-47FC-8BAE-E51B58F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53D41-584F-4EB3-A823-052D0A66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ABCD2-9831-4B61-BCF7-75C1A8C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5C51-5217-403E-8B55-936F1F5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94DC4-5877-40FB-9927-2362996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B01-ED66-4FFF-9F99-682305E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86A48-3719-4583-9B8C-FBE822AD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C8421-7C37-49A8-9304-C7BDA571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AA07-A38B-4947-A4B5-E048F058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65767-02D4-4A64-931D-0A7BBEE5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4710-8F73-45F1-8991-1ED28BD7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106F-BACD-49B2-BD98-84FFB5D0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B181-A0F2-4900-AFD7-C435B5B4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A5E7C-29FB-4493-B3CE-103CCC1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5A08A-25C1-4916-9BF9-DB869785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E3E1-5F19-4080-8231-283C1AF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3AE-12CD-4533-978D-C3A69319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EC45-3A67-4CD5-98D2-A67F1AB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AFB3-D08C-4B25-A290-B36B7BA7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5BB0-7752-4A5F-81D9-8D391F7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1B662-93B3-4775-8C25-434FE936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4765-9343-4C6F-AE71-0FFCF117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BCD6-131F-46CD-A630-F82EC9ED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E9E01-B532-4C31-B547-10C0097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8DBE-123F-420E-AF79-1BC1D6FA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8716C-FCEC-4929-910D-E65481C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D756F-E2A4-4DBC-AFA1-B0FCE0A9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1C7-0C16-4691-BE83-56B65C6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066F-35A5-4C9E-95D3-31A71BFC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BCDF2-54A7-4C23-AA58-5209DB3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6EA8-0247-48A2-B824-94ADE50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B7DA-2907-48AA-8E31-57C8B2A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FAFF-9B57-415F-9748-4DF6F8BD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8952-73B7-4834-B89A-9A5E387D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7A919-F38F-4594-B06C-C990B3D3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82EB3-46E2-43D3-ACA1-967351B5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83EB8-8B8F-41ED-B616-174E06F7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AC141-9759-4A7E-9F93-E5212A3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3627-3423-42E1-BB97-954FDB0027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FF9F-6B93-4E66-8170-1680808662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638-EE13-43A9-A9C6-BC409C4C96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E893-011F-4868-ACC3-1BD76705E9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EF13-FF95-4EF9-A5A6-9151143E95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2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2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C331-822E-4CBF-8853-F7D62AB9BA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3DC-AD0B-4329-81C5-8435B4A255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9747-D51A-4D90-8626-C7CDFE91E7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703-526D-4891-9863-25A0221C09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4D96-E0B5-4497-A2CF-D3F935AA51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7027-3AD2-4A08-9D95-2BE21A2161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1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4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6557-4E4A-4CAA-BD00-1CA4D6093B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31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4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B562-A574-4650-BB01-467AF9BC1D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9249-AC7D-4D4E-BF76-0B4BE633E8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ја организам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гетатив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продук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ја помоћу репродуктивних ћелија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496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омозомске тетраде у екваторијалној р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дају се терминалне хија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вајају се дијаде и крећу ка супротним пол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л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ро са смањеним бројем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3" descr="metICRT"/>
          <p:cNvPicPr/>
          <p:nvPr/>
        </p:nvPicPr>
        <p:blipFill>
          <a:blip r:embed="rId1"/>
          <a:stretch/>
        </p:blipFill>
        <p:spPr>
          <a:xfrm>
            <a:off x="6156360" y="765000"/>
            <a:ext cx="1857240" cy="1730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anaICRT"/>
          <p:cNvPicPr/>
          <p:nvPr/>
        </p:nvPicPr>
        <p:blipFill>
          <a:blip r:embed="rId2"/>
          <a:stretch/>
        </p:blipFill>
        <p:spPr>
          <a:xfrm>
            <a:off x="6156360" y="292428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teloICRT"/>
          <p:cNvPicPr/>
          <p:nvPr/>
        </p:nvPicPr>
        <p:blipFill>
          <a:blip r:embed="rId3"/>
          <a:stretch/>
        </p:blipFill>
        <p:spPr>
          <a:xfrm>
            <a:off x="6156360" y="5013360"/>
            <a:ext cx="18003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ејотичка митоза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5472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тр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де у екваторијалној р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центром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де се крећу ка пол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л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четири ћелије 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ем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4" descr="profIICRT"/>
          <p:cNvPicPr/>
          <p:nvPr/>
        </p:nvPicPr>
        <p:blipFill>
          <a:blip r:embed="rId1"/>
          <a:stretch/>
        </p:blipFill>
        <p:spPr>
          <a:xfrm>
            <a:off x="6227640" y="907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" descr="metaIICRT"/>
          <p:cNvPicPr/>
          <p:nvPr/>
        </p:nvPicPr>
        <p:blipFill>
          <a:blip r:embed="rId2"/>
          <a:stretch/>
        </p:blipFill>
        <p:spPr>
          <a:xfrm>
            <a:off x="6227640" y="2421000"/>
            <a:ext cx="1424160" cy="1328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anaIICRT"/>
          <p:cNvPicPr/>
          <p:nvPr/>
        </p:nvPicPr>
        <p:blipFill>
          <a:blip r:embed="rId3"/>
          <a:stretch/>
        </p:blipFill>
        <p:spPr>
          <a:xfrm>
            <a:off x="6227640" y="3860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7" descr="teloIICRT"/>
          <p:cNvPicPr/>
          <p:nvPr/>
        </p:nvPicPr>
        <p:blipFill>
          <a:blip r:embed="rId4"/>
          <a:stretch/>
        </p:blipFill>
        <p:spPr>
          <a:xfrm>
            <a:off x="6227640" y="5418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јoзa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s://www.youtube.com/watch?v=nMEyeKQClq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продукција помоћу гамет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гамет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т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е и покретљив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из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блику и величини и оба су покрет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ику и велич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а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руги обично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крет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260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аметогенеза се састоји из три фаз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68000" y="2133720"/>
            <a:ext cx="8064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размножавањ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митотичком деобом примордијалних герминативних ћелија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 настају  гониј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раст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 гоније расту и диференцирају се у примарне ооците/сперматоцит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сазревањ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–  мејотичка деоба ћелија (када од једне мајке ћелиј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 настају четири ћерке ћелије са  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бројем хромозом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а полних ћелија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ује се број хромозома на полов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две узастопне деоб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ејотичка деоба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мејотичка деоба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ац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000" y="220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 мејотичкој деоби претходи дуга и интензивна интерфаз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мејозе: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394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епт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зиг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хи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пл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л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3640" y="1700280"/>
            <a:ext cx="32418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л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1" name="Picture 3" descr="meiosis"/>
          <p:cNvPicPr/>
          <p:nvPr/>
        </p:nvPicPr>
        <p:blipFill>
          <a:blip r:embed="rId1"/>
          <a:stretch/>
        </p:blipFill>
        <p:spPr>
          <a:xfrm>
            <a:off x="318960" y="692280"/>
            <a:ext cx="8825040" cy="5941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2843280" y="105264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4211640" y="1052640"/>
            <a:ext cx="12384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6084720" y="105264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7667640" y="1125360"/>
            <a:ext cx="13366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7812000" y="602136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6084720" y="6021360"/>
            <a:ext cx="1081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4427640" y="602136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2700360" y="6093000"/>
            <a:ext cx="1081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826920" y="6021360"/>
            <a:ext cx="12384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итокине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684360" y="1052640"/>
            <a:ext cx="12366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2425680" y="528480"/>
            <a:ext cx="1641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4"/>
          <p:cNvSpPr/>
          <p:nvPr/>
        </p:nvSpPr>
        <p:spPr>
          <a:xfrm>
            <a:off x="2425680" y="2852640"/>
            <a:ext cx="1714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sadava_9_16_big_LARGE_2"/>
          <p:cNvPicPr/>
          <p:nvPr/>
        </p:nvPicPr>
        <p:blipFill>
          <a:blip r:embed="rId1">
            <a:lum contrast="12000"/>
          </a:blip>
          <a:srcRect l="0" t="1300" r="0" b="54133"/>
          <a:stretch/>
        </p:blipFill>
        <p:spPr>
          <a:xfrm>
            <a:off x="0" y="1268280"/>
            <a:ext cx="4822920" cy="48974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sadava_9_16_big_LARGE_2"/>
          <p:cNvPicPr/>
          <p:nvPr/>
        </p:nvPicPr>
        <p:blipFill>
          <a:blip r:embed="rId2">
            <a:lum contrast="12000"/>
          </a:blip>
          <a:srcRect l="0" t="49566" r="-2797" b="2840"/>
          <a:stretch/>
        </p:blipFill>
        <p:spPr>
          <a:xfrm>
            <a:off x="4932360" y="170028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"/>
          <p:cNvSpPr/>
          <p:nvPr/>
        </p:nvSpPr>
        <p:spPr>
          <a:xfrm>
            <a:off x="0" y="62064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003640" y="1197000"/>
            <a:ext cx="1368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0" y="1125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на 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547640" y="1125360"/>
            <a:ext cx="151164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12600" y="375444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203640" y="1125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на 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4643280" y="3933720"/>
            <a:ext cx="1511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на 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1619280" y="3789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203640" y="3789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4643280" y="170028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6084720" y="1700280"/>
            <a:ext cx="151164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7451640" y="170028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6227640" y="393372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Prophase%25201"/>
          <p:cNvPicPr/>
          <p:nvPr/>
        </p:nvPicPr>
        <p:blipFill>
          <a:blip r:embed="rId1"/>
          <a:srcRect l="0" t="0" r="0" b="4289"/>
          <a:stretch/>
        </p:blipFill>
        <p:spPr>
          <a:xfrm>
            <a:off x="3708360" y="1484280"/>
            <a:ext cx="5435640" cy="48974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аза прве мејотичке деоб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4140360" y="3573360"/>
            <a:ext cx="135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пт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5867280" y="3573360"/>
            <a:ext cx="12780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иг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7704000" y="3573360"/>
            <a:ext cx="14400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хи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4067280" y="6021360"/>
            <a:ext cx="1422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пл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5724360" y="6021360"/>
            <a:ext cx="1729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7559640" y="6021360"/>
            <a:ext cx="1584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8177040" y="204624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тр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4716360" y="1628640"/>
            <a:ext cx="1297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ентро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6732720" y="3284640"/>
            <a:ext cx="11509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напс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3419640" y="472428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ија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67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ЕПТ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асти, издужени хромозо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ЗИГ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 се синапсис и бивален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ХИ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 се тетрад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ing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ПЛ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лизација хијаз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аст облик хромоз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е једарце и једрова оп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2-08-25T14:40:00Z</dcterms:modified>
  <cp:revision>233</cp:revision>
  <dc:subject/>
  <dc:title>MUTACIJE GENA</dc:title>
</cp:coreProperties>
</file>